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788C-33BF-40C3-84B6-31BC93606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A7AB-5FC7-4225-BA62-BD37F93C3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4F21-2B1F-414F-8FED-B3CD6647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2060-6E79-4534-A82E-2ADCE7D3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463B-7769-4A00-8C54-9FAFC12F0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C99-EBAD-4760-A77A-68295178B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36AF-1E2A-4667-80AB-111996BC1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714E-E139-484A-9856-72FC66C1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FEF7-7DF0-4E89-BDCE-450C80B0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B513-CA1E-4706-8FCA-C7FD1F43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E6F6-547D-45D4-B964-52C89D78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8CD-001B-44F2-BE1F-D9A1194E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D50EC-F77F-41C9-9FAE-C232246AD6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7701" t="39459" r="3844" b="33906"/>
          <a:stretch/>
        </p:blipFill>
        <p:spPr>
          <a:xfrm>
            <a:off x="152280" y="5181480"/>
            <a:ext cx="8991720" cy="149544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752480" y="1143000"/>
            <a:ext cx="54864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f497d"/>
                </a:solidFill>
                <a:latin typeface="Calibri"/>
              </a:rPr>
              <a:t>What Can We Learn From Noticing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ere are Your Learner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which domain were your learners closest to the targe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NOW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LIEV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LONGING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776160" y="20574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ink/Write/Pair/Sh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What do you think you did as a teacher in the Powerful Lesson (or in general) to help learners get close to the target in that area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here are Your Learner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which domain were your learners farthest from the targe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KNOW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O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LIEV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ELONGING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3824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eviewing Student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o back to the student wor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oose a domain in which your students were not as close to the target as you hoped or expected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ooking at the responses to the question or prompt in that doma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lecting Student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You will now select 3 pieces of student work from your collectio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 that is CLOSE to the targ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 that is FAR from the targ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 that is in the MIDD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33520" y="22860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Clos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dicates the learner answered the question and demonstrates evidence of hitting or coming quite close to the noticing target.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Middl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dicates the learner partially answered the question and is making progress toward the noticing targe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Fa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cates the learner has not really answered the question and is making little or no progress toward the noticing targ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ing the highlighter you got when you checked in, make a </a:t>
            </a:r>
            <a:r>
              <a:rPr b="0" lang="en-US" sz="4400" spc="-1" strike="noStrike">
                <a:solidFill>
                  <a:srgbClr val="92d050"/>
                </a:solidFill>
                <a:latin typeface="Calibri"/>
              </a:rPr>
              <a:t>GREEN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ark on the close piece of work, make a </a:t>
            </a:r>
            <a:r>
              <a:rPr b="0" lang="en-US" sz="4400" spc="-1" strike="noStrike">
                <a:solidFill>
                  <a:srgbClr val="ffff00"/>
                </a:solidFill>
                <a:latin typeface="Calibri"/>
              </a:rPr>
              <a:t>YELLOW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ark on the middle piece of work, and make a </a:t>
            </a:r>
            <a:r>
              <a:rPr b="0" lang="en-US" sz="4400" spc="-1" strike="noStrike">
                <a:solidFill>
                  <a:srgbClr val="ff99ff"/>
                </a:solidFill>
                <a:latin typeface="Calibri"/>
              </a:rPr>
              <a:t>PINK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mark on the far piece of work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ext Ste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Using the worksheet, jot down some reasons you thought the pieces you chose belonged in each of those categories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671400" y="2057400"/>
            <a:ext cx="351972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Noticing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195360" cy="3429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990720" y="1905120"/>
            <a:ext cx="30477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hink about your noticing tool, prompts and student respon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Write (then Shar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ere the responses what you expected? In what ways did they meet or not meet your expecta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was a difference you saw between the first and second noticing (if you’ve done 2)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Our Hope: Growth for All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905120" y="1440000"/>
            <a:ext cx="5029200" cy="45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on Berger: An Ethic of Excell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at could you possibly achieve of quality in a single draf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uld you ever put on a play without rehearsals? Give a concert without practicing firs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09480" y="1996920"/>
            <a:ext cx="387036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ere are Learners in their Journey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86000" y="1728720"/>
            <a:ext cx="480060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oving Closer to the Targ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616200" cy="2438280"/>
          </a:xfrm>
          <a:prstGeom prst="rect">
            <a:avLst/>
          </a:prstGeom>
          <a:ln w="0">
            <a:noFill/>
          </a:ln>
        </p:spPr>
      </p:pic>
      <p:sp>
        <p:nvSpPr>
          <p:cNvPr id="57" name="Bent-Up Arrow 18"/>
          <p:cNvSpPr/>
          <p:nvPr/>
        </p:nvSpPr>
        <p:spPr>
          <a:xfrm rot="5785800">
            <a:off x="3596400" y="3332880"/>
            <a:ext cx="453960" cy="2782800"/>
          </a:xfrm>
          <a:custGeom>
            <a:avLst/>
            <a:gdLst>
              <a:gd name="textAreaLeft" fmla="*/ 0 w 453960"/>
              <a:gd name="textAreaRight" fmla="*/ 397440 w 453960"/>
              <a:gd name="textAreaTop" fmla="*/ 2669760 h 2782800"/>
              <a:gd name="textAreaBottom" fmla="*/ 2783160 h 2782800"/>
            </a:gdLst>
            <a:ahLst/>
            <a:rect l="textAreaLeft" t="textAreaTop" r="textAreaRight" b="textAreaBottom"/>
            <a:pathLst>
              <a:path w="453097" h="2783492">
                <a:moveTo>
                  <a:pt x="0" y="2670218"/>
                </a:moveTo>
                <a:lnTo>
                  <a:pt x="283186" y="2670218"/>
                </a:lnTo>
                <a:lnTo>
                  <a:pt x="283186" y="113274"/>
                </a:lnTo>
                <a:lnTo>
                  <a:pt x="226549" y="113274"/>
                </a:lnTo>
                <a:lnTo>
                  <a:pt x="339823" y="0"/>
                </a:lnTo>
                <a:lnTo>
                  <a:pt x="453097" y="113274"/>
                </a:lnTo>
                <a:lnTo>
                  <a:pt x="396460" y="113274"/>
                </a:lnTo>
                <a:lnTo>
                  <a:pt x="396460" y="2783492"/>
                </a:lnTo>
                <a:lnTo>
                  <a:pt x="0" y="278349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1066680" y="51814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Oval 22"/>
          <p:cNvSpPr/>
          <p:nvPr/>
        </p:nvSpPr>
        <p:spPr>
          <a:xfrm>
            <a:off x="5029200" y="2438280"/>
            <a:ext cx="3733920" cy="3581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O PLAN NEXT POWERFUL LEARNING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onsider All Learning Doma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0" descr="KDBB.jpg"/>
          <p:cNvPicPr/>
          <p:nvPr/>
        </p:nvPicPr>
        <p:blipFill>
          <a:blip r:embed="rId1"/>
          <a:stretch/>
        </p:blipFill>
        <p:spPr>
          <a:xfrm>
            <a:off x="2133720" y="1706400"/>
            <a:ext cx="5029200" cy="41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C:\Program Files\Microsoft Office\MEDIA\CAGCAT10\j0293844.wmf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5288040"/>
          </a:xfrm>
          <a:prstGeom prst="rect">
            <a:avLst/>
          </a:prstGeom>
          <a:ln w="0">
            <a:noFill/>
          </a:ln>
        </p:spPr>
      </p:pic>
      <p:sp>
        <p:nvSpPr>
          <p:cNvPr id="64" name="Right Arrow 7"/>
          <p:cNvSpPr/>
          <p:nvPr/>
        </p:nvSpPr>
        <p:spPr>
          <a:xfrm rot="1621200">
            <a:off x="82080" y="1474920"/>
            <a:ext cx="4051440" cy="101124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ight Arrow 8"/>
          <p:cNvSpPr/>
          <p:nvPr/>
        </p:nvSpPr>
        <p:spPr>
          <a:xfrm rot="21084600">
            <a:off x="286920" y="4425480"/>
            <a:ext cx="3846600" cy="1049400"/>
          </a:xfrm>
          <a:prstGeom prst="rightArrow">
            <a:avLst>
              <a:gd name="adj1" fmla="val 50000"/>
              <a:gd name="adj2" fmla="val 49943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ight Arrow 9"/>
          <p:cNvSpPr/>
          <p:nvPr/>
        </p:nvSpPr>
        <p:spPr>
          <a:xfrm rot="19362600">
            <a:off x="3809880" y="5562720"/>
            <a:ext cx="4572000" cy="106668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4:23:38Z</dcterms:created>
  <dc:creator> </dc:creator>
  <dc:description/>
  <dc:language>en-US</dc:language>
  <cp:lastModifiedBy>Rabbi K</cp:lastModifiedBy>
  <dcterms:modified xsi:type="dcterms:W3CDTF">2010-03-14T12:59:36Z</dcterms:modified>
  <cp:revision>15</cp:revision>
  <dc:subject/>
  <dc:title>Slide 1</dc:title>
</cp:coreProperties>
</file>